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20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F1FA-3E0C-4C7E-8787-68491DCD8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32BE-DF12-4EFE-BC3D-2A203E97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7311-7EB8-41A8-A83A-64EAE0459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ED7B-3A4F-45D6-BA7D-32CFFBDC3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A077-22C0-4100-A655-48F31ED3E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40F5-2EBA-4393-AE65-24EC9C39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FC14-985F-4B45-A595-070D195E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B836-EE6A-4278-A559-D9BD7C85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529A-70F8-4860-9FAA-8C575EA9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2EBC-DE30-4291-80E7-837B4F8E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9C56-3D37-4514-B3EB-13819A74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B56E-EE55-49D3-8249-2FCD1F5C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8A1B-0A65-47D9-BCBA-D9C88B1E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ACC02-3AD1-4D8C-82EC-C5147AC8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23BE5-26B1-4A04-9DBF-A638ABFE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516A6-7616-47CE-AA9A-E5ACB5860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8E8A-F048-4563-86E9-01D9E166F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ED2E-C06D-442D-8614-8F4181F7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F848-72C5-4EFD-A919-4AC0C832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879D-6DA3-446F-B563-DBC18F61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44B4-6FBD-49FF-B3D7-254B2665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FD8C-8C95-46BC-B049-D42F458E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6B75-DC5A-4C0B-BE8E-EE4E77AD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AC16-4EBD-423B-84DE-DCE243FC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863A-F3FA-43AD-AD26-E38902159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plant"/>
          <p:cNvPicPr/>
          <p:nvPr/>
        </p:nvPicPr>
        <p:blipFill>
          <a:blip r:embed="rId3"/>
          <a:stretch/>
        </p:blipFill>
        <p:spPr>
          <a:xfrm>
            <a:off x="5257800" y="2286000"/>
            <a:ext cx="4240080" cy="4746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989C-D4FD-4972-95D2-2134E79F6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mycaert.com/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mycaert.com/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1066680"/>
            <a:ext cx="6933960" cy="1828800"/>
          </a:xfrm>
          <a:prstGeom prst="rect">
            <a:avLst/>
          </a:prstGeom>
          <a:noFill/>
          <a:ln w="0">
            <a:noFill/>
          </a:ln>
          <a:effectLst>
            <a:outerShdw dist="29795" dir="3898986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nderstanding Stem Anatomy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4" descr="cartlogo_s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6086520"/>
            <a:ext cx="66672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an we use the internal structure of a tree stem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ge of a tree can be determined by counting annual growth ring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pid growth (spring and early summer) = large cells with thin walls = large in diame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low growth (mid-to-late summer) = smaller cells and have thicker wall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5" descr="193"/>
          <p:cNvPicPr/>
          <p:nvPr/>
        </p:nvPicPr>
        <p:blipFill>
          <a:blip r:embed="rId1"/>
          <a:stretch/>
        </p:blipFill>
        <p:spPr>
          <a:xfrm rot="5400000">
            <a:off x="3342600" y="3362040"/>
            <a:ext cx="26863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are some different kinds of specialized stems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Bulb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ry short flattened stem that has several fleshy leaves attached to 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nd beneath the soi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 = on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Corm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pherical struc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tire structure is 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 = gladiol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0" name="Group 7"/>
          <p:cNvGrpSpPr/>
          <p:nvPr/>
        </p:nvGrpSpPr>
        <p:grpSpPr>
          <a:xfrm>
            <a:off x="6705720" y="1295280"/>
            <a:ext cx="2361960" cy="4648320"/>
            <a:chOff x="6705720" y="1295280"/>
            <a:chExt cx="2361960" cy="4648320"/>
          </a:xfrm>
        </p:grpSpPr>
        <p:pic>
          <p:nvPicPr>
            <p:cNvPr id="121" name="Picture 5" descr="194"/>
            <p:cNvPicPr/>
            <p:nvPr/>
          </p:nvPicPr>
          <p:blipFill>
            <a:blip r:embed="rId1"/>
            <a:stretch/>
          </p:blipFill>
          <p:spPr>
            <a:xfrm>
              <a:off x="7315200" y="1295280"/>
              <a:ext cx="1752480" cy="175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6" descr="195"/>
            <p:cNvPicPr/>
            <p:nvPr/>
          </p:nvPicPr>
          <p:blipFill>
            <a:blip r:embed="rId2"/>
            <a:stretch/>
          </p:blipFill>
          <p:spPr>
            <a:xfrm>
              <a:off x="6705720" y="3657600"/>
              <a:ext cx="1942920" cy="2286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are some different kinds of specialized stems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960" y="1294920"/>
            <a:ext cx="60195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Rhizom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thick underground stem that lies horizontal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 = Hostas and Mother-in-law’s Tong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ub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wollen tip that stores fo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 =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rish potato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Stol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horizontal stem that lies above the ground that are involved in the spreading of the pl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 = Strawber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7" descr="197"/>
          <p:cNvPicPr/>
          <p:nvPr/>
        </p:nvPicPr>
        <p:blipFill>
          <a:blip r:embed="rId1"/>
          <a:stretch/>
        </p:blipFill>
        <p:spPr>
          <a:xfrm>
            <a:off x="6370560" y="5141880"/>
            <a:ext cx="2468520" cy="1639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198"/>
          <p:cNvPicPr/>
          <p:nvPr/>
        </p:nvPicPr>
        <p:blipFill>
          <a:blip r:embed="rId2"/>
          <a:stretch/>
        </p:blipFill>
        <p:spPr>
          <a:xfrm rot="5400000">
            <a:off x="5898960" y="2546280"/>
            <a:ext cx="2057400" cy="3060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196"/>
          <p:cNvPicPr/>
          <p:nvPr/>
        </p:nvPicPr>
        <p:blipFill>
          <a:blip r:embed="rId3"/>
          <a:stretch/>
        </p:blipFill>
        <p:spPr>
          <a:xfrm>
            <a:off x="6141960" y="1459080"/>
            <a:ext cx="2844720" cy="18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304812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are some different kinds of specialized stems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1"/>
          <a:stretch/>
        </p:blipFill>
        <p:spPr>
          <a:xfrm>
            <a:off x="3124080" y="0"/>
            <a:ext cx="58104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cartlogo_s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6086520"/>
            <a:ext cx="666720" cy="7714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228600" y="76320"/>
            <a:ext cx="7391520" cy="40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escribe the functions of a 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gnize the external structures of a 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alyze the internal structures of a 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istinguish between the different types of specialized st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are the functions of a stem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419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ponsible for the size and shape of a pl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de of different mater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rbaceous or soft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Picture 13" descr="186"/>
          <p:cNvPicPr/>
          <p:nvPr/>
        </p:nvPicPr>
        <p:blipFill>
          <a:blip r:embed="rId1"/>
          <a:stretch/>
        </p:blipFill>
        <p:spPr>
          <a:xfrm>
            <a:off x="5029200" y="1828800"/>
            <a:ext cx="26542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are the functions of a stem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ort the leav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ve water, minerals, and food throughout the pl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Translo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lp produce food through photosynthe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food that has been manufactu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2" name="Group 7"/>
          <p:cNvGrpSpPr/>
          <p:nvPr/>
        </p:nvGrpSpPr>
        <p:grpSpPr>
          <a:xfrm>
            <a:off x="2209680" y="4648320"/>
            <a:ext cx="3429000" cy="2209680"/>
            <a:chOff x="2209680" y="4648320"/>
            <a:chExt cx="3429000" cy="2209680"/>
          </a:xfrm>
        </p:grpSpPr>
        <p:pic>
          <p:nvPicPr>
            <p:cNvPr id="93" name="Picture 5" descr="187"/>
            <p:cNvPicPr/>
            <p:nvPr/>
          </p:nvPicPr>
          <p:blipFill>
            <a:blip r:embed="rId1"/>
            <a:stretch/>
          </p:blipFill>
          <p:spPr>
            <a:xfrm>
              <a:off x="2209680" y="4648320"/>
              <a:ext cx="1473480" cy="22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6" descr="188"/>
            <p:cNvPicPr/>
            <p:nvPr/>
          </p:nvPicPr>
          <p:blipFill>
            <a:blip r:embed="rId2"/>
            <a:stretch/>
          </p:blipFill>
          <p:spPr>
            <a:xfrm>
              <a:off x="396252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are some of the structures on the outside of a stem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6324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Terminal bu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rowing point at the tip of the st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Lateral bu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de bud on the ste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re the leaf is attached to the ste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Internod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area between leav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Leaf sc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ar where leaf falls off of the st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Bud scale sc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ar left behind from last year’s growt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Lentic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mall spots on the stem that allow exchange gases with its environ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7" name="Group 9"/>
          <p:cNvGrpSpPr/>
          <p:nvPr/>
        </p:nvGrpSpPr>
        <p:grpSpPr>
          <a:xfrm>
            <a:off x="6696000" y="1447920"/>
            <a:ext cx="2448000" cy="4505040"/>
            <a:chOff x="6696000" y="1447920"/>
            <a:chExt cx="2448000" cy="4505040"/>
          </a:xfrm>
        </p:grpSpPr>
        <p:pic>
          <p:nvPicPr>
            <p:cNvPr id="98" name="Picture 5" descr="4"/>
            <p:cNvPicPr/>
            <p:nvPr/>
          </p:nvPicPr>
          <p:blipFill>
            <a:blip r:embed="rId1"/>
            <a:stretch/>
          </p:blipFill>
          <p:spPr>
            <a:xfrm>
              <a:off x="6781680" y="1447920"/>
              <a:ext cx="2116080" cy="2133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9" name="Group 8"/>
            <p:cNvGrpSpPr/>
            <p:nvPr/>
          </p:nvGrpSpPr>
          <p:grpSpPr>
            <a:xfrm>
              <a:off x="6696000" y="3657600"/>
              <a:ext cx="2448000" cy="2295360"/>
              <a:chOff x="6696000" y="3657600"/>
              <a:chExt cx="2448000" cy="2295360"/>
            </a:xfrm>
          </p:grpSpPr>
          <p:pic>
            <p:nvPicPr>
              <p:cNvPr id="100" name="Picture 6" descr="190"/>
              <p:cNvPicPr/>
              <p:nvPr/>
            </p:nvPicPr>
            <p:blipFill>
              <a:blip r:embed="rId2"/>
              <a:stretch/>
            </p:blipFill>
            <p:spPr>
              <a:xfrm>
                <a:off x="6696000" y="3657600"/>
                <a:ext cx="2448000" cy="229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Rectangle 7"/>
              <p:cNvSpPr/>
              <p:nvPr/>
            </p:nvSpPr>
            <p:spPr>
              <a:xfrm>
                <a:off x="6705720" y="5791320"/>
                <a:ext cx="2438280" cy="152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312444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are some of the structures on the outside of a stem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3295800" y="-76320"/>
            <a:ext cx="5848200" cy="69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are some of the structures inside a stem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ways interior stem tissue is organi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attered bund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nd in monocot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i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nd in dico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523880" y="4114800"/>
            <a:ext cx="59245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are some of the structures inside a stem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6934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ree important internal tiss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yl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ports the water and minerals throughout the pla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nd closer to the center of the 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lo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ports food that is produced in the leaf to the rest of the pla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nd toward the outside of the 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mbi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ponsible for the production of new xylem and phlo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es growth in girth of the stem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nd between the xylem and the phlo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9" name="Group 7"/>
          <p:cNvGrpSpPr/>
          <p:nvPr/>
        </p:nvGrpSpPr>
        <p:grpSpPr>
          <a:xfrm>
            <a:off x="7162920" y="1219320"/>
            <a:ext cx="1725480" cy="4483080"/>
            <a:chOff x="7162920" y="1219320"/>
            <a:chExt cx="1725480" cy="4483080"/>
          </a:xfrm>
        </p:grpSpPr>
        <p:pic>
          <p:nvPicPr>
            <p:cNvPr id="110" name="Picture 5" descr="5"/>
            <p:cNvPicPr/>
            <p:nvPr/>
          </p:nvPicPr>
          <p:blipFill>
            <a:blip r:embed="rId1"/>
            <a:stretch/>
          </p:blipFill>
          <p:spPr>
            <a:xfrm>
              <a:off x="7391520" y="1219320"/>
              <a:ext cx="1371600" cy="224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6" descr="191"/>
            <p:cNvPicPr/>
            <p:nvPr/>
          </p:nvPicPr>
          <p:blipFill>
            <a:blip r:embed="rId2"/>
            <a:stretch/>
          </p:blipFill>
          <p:spPr>
            <a:xfrm>
              <a:off x="7162920" y="3962520"/>
              <a:ext cx="1725480" cy="1739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an we use the internal structure of a tree stem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Heartwoo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rker wood to the center of the tr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strength and no longer function in conducting 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Sapwoo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ghter wood circling th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rtwoo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vely conducts wat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dissolved miner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5" descr="192"/>
          <p:cNvPicPr/>
          <p:nvPr/>
        </p:nvPicPr>
        <p:blipFill>
          <a:blip r:embed="rId1"/>
          <a:stretch/>
        </p:blipFill>
        <p:spPr>
          <a:xfrm>
            <a:off x="5029200" y="3276720"/>
            <a:ext cx="41022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6T18:38:17Z</dcterms:created>
  <dc:creator>Lindi Kocher</dc:creator>
  <dc:description/>
  <cp:keywords/>
  <dc:language>en-US</dc:language>
  <cp:lastModifiedBy>Alicia Burge</cp:lastModifiedBy>
  <dcterms:modified xsi:type="dcterms:W3CDTF">2011-03-06T19:52:51Z</dcterms:modified>
  <cp:revision>44</cp:revision>
  <dc:subject/>
  <dc:title>Horticulture Scie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21033</vt:lpwstr>
  </property>
</Properties>
</file>